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222A-7B47-4520-B5D1-6F1FF297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87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6A15-D767-4DFF-9E3E-F5709BD1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97E7-F1F1-402D-8282-1145DFF0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62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87200"/>
            <a:ext cx="264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D64-3094-452E-A37C-13AF5E7F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1F9-4D64-48E5-9900-11C1B144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3EDA-9B49-4E80-B9FB-B789BDCB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BC4F-7BD5-4DA5-8B51-BC36A1DD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66C-6D9A-4132-84D7-CAE5E7AC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128A-4854-487B-AFF2-C0A29751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85FC-E13A-4026-9F5B-AE2395D7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87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D9E5-2092-4E3A-96D8-56D2F133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62200"/>
            <a:ext cx="40158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87200"/>
            <a:ext cx="8229600" cy="184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35D-55D8-4567-85A9-51AF9E00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9920" indent="-25992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531360" indent="-271440"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791280" indent="-259920"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3" marL="1051560" indent="-259920">
              <a:spcBef>
                <a:spcPts val="2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4" marL="1311480" indent="-259920">
              <a:spcBef>
                <a:spcPts val="2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5" marL="1311480" indent="-259920">
              <a:spcBef>
                <a:spcPts val="2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6" marL="1311480" indent="-259920">
              <a:spcBef>
                <a:spcPts val="2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32720" y="588276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36063-CD35-4C9F-8E34-EC21A4BE0D62}" type="datetime">
              <a:rPr b="0" lang="en-US" sz="1200" spc="-1" strike="noStrike">
                <a:solidFill>
                  <a:srgbClr val="ffffff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5240" y="58827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28920" y="5882760"/>
            <a:ext cx="685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D173D-F7F4-4F70-9553-C20ED3E31226}" type="slidenum"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760"/>
            <a:ext cx="8229600" cy="213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Constantia"/>
              </a:rPr>
              <a:t>NOT SO GREAT EXPECTATIONS</a:t>
            </a:r>
            <a:br>
              <a:rPr sz="5600"/>
            </a:b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COURTNEY KURTAS AND VICTOR MAGRO</a:t>
            </a:r>
            <a:endParaRPr b="1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4463640"/>
            <a:ext cx="8229600" cy="11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3" name="Picture 4" descr="fulton operal hous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Setting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n Present day Las Angeles, California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reviously: A young Gentleman, by the name of Mr. Pip, has just anonymously bought his acquaintance, Mr. Herbert Pocket, into a partnership with a “retailer.” He is now going to visit the love of his life, Estella, in BEVERLY HILLS…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>
              <a:spcBef>
                <a:spcPts val="2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CAST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ip - ______________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>
              <a:spcBef>
                <a:spcPts val="20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ld Pip -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>
              <a:spcBef>
                <a:spcPts val="20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Estella - _____________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>
              <a:spcBef>
                <a:spcPts val="20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Mrs. Brandley - ______________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>
              <a:spcBef>
                <a:spcPts val="20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rummle - ________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>
              <a:spcBef>
                <a:spcPts val="20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Old Sailor/Convict - ____________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Act One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hapter 37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age 273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Act Two </a:t>
            </a:r>
            <a:r>
              <a:rPr b="1" lang="en-US" sz="4400" spc="-1" strike="noStrike">
                <a:solidFill>
                  <a:srgbClr val="ffffff"/>
                </a:solidFill>
                <a:latin typeface="Constantia"/>
              </a:rPr>
              <a:t>	</a:t>
            </a: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hapter 38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82600" indent="-28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Page 280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762200"/>
            <a:ext cx="8229600" cy="38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tantia"/>
              </a:rPr>
              <a:t>THE END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8:55:19Z</dcterms:created>
  <dc:creator>MTSD MTSD</dc:creator>
  <dc:description/>
  <dc:language>en-US</dc:language>
  <cp:lastModifiedBy>MTSD MTSD</cp:lastModifiedBy>
  <dcterms:modified xsi:type="dcterms:W3CDTF">2009-02-26T19:33:53Z</dcterms:modified>
  <cp:revision>3</cp:revision>
  <dc:subject/>
  <dc:title>NOT SO GREAT EXPECTATIONS COURTNEY KURTAS AND VICTOR MAGRO</dc:title>
</cp:coreProperties>
</file>